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601-43FF-494A-8FB5-F1A51C4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AC1-5780-4B81-9D5C-E0ED7EC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FBC-A836-4CBA-BA4B-42331991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49B-46DA-4333-9CF2-B86CD325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65A-3B39-4DAE-8FD6-894F4CB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6FC-EAE2-4911-8164-0DAF3494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81B-7E62-41E8-898F-E91D1292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1AD-E64B-4BD8-950A-1A454F64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A97-0873-4E57-91D5-778CC9D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3A5-CD0C-4118-85C9-83ABECC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4FA-9571-4911-BA5C-B1D2FC3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3B9-1580-4D6E-870A-0612C30A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EF75-7F87-477B-B7B8-237E8176A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DFS01/SSSTAFF/ahart/Level%203/Lektion%206/der%20ganze%20k&#246;rper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3697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33520" y="2133720"/>
            <a:ext cx="45720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der Philipp heute stil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ohl bei Tische sitzen will?"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lso sprach in ernstem T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r Papa zu seinem Sohn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Mutter blickte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tu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ganzen Tisch herum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och der Philipp hörte nich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as zu ihm der Vater sprich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gauk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chaukel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rapp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app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Stuhle hin und he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"Philipp,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das mißfällt mir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r 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280" y="5288040"/>
            <a:ext cx="3353040" cy="155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licken, blickte, hat geblickt – to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 – wh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mm – dumb/in si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ukelt - flut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aukelt - r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lt - clo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ppelt – fidge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mißfällt mir – I disap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173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638680" y="2286000"/>
            <a:ext cx="4572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t, ihr lieben Kinder, seh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ie's dem Philipp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weiter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geht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Oben steht es auf dem Bil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t! Er schaukelt gar zu wild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is der Stuhl nach hinten fäll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ist nichts mehr, was ih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äl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ach dem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ischtuch greif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er, schrei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och was hilfts?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u gleicher Ze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Falle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eller, Flasch'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Bro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Vater ist in groß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Mutter blicket stu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ganzen Tisch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erum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876920" y="4902120"/>
            <a:ext cx="3429000" cy="2012040"/>
          </a:xfrm>
          <a:prstGeom prst="rect">
            <a:avLst/>
          </a:prstGeom>
          <a:noFill/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ter – fur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ält – 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schtuch – table cl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ift – gr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u gleicher Zeit –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ller – 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asch’ – bot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–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rum - 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569680" y="0"/>
            <a:ext cx="34772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e Geschichte vom Zappel-Phili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62120" y="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Nu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ist der Philipp ganz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versteck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er Tisch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ist abgedeck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as der Vater essen wollt'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ten auf d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Erde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roll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ppe, Brot und alle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Bisse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lles ist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erabgerisse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400"/>
            </a:b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uppenschüssel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ist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entzwei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Eltern steh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dabei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eide sind ga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ornig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sehr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Haben nichts zu essen meh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286000"/>
            <a:ext cx="2438280" cy="2225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un –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versteckt - hidd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st abgedeckt – uncover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r Erde - eart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issen – morsels of foo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st herabgerissen – torn apar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ppenschüssel- soup 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ntzwei – in tw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bei - nearb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zornig – irate/wr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3124080" cy="2528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4267080" y="152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usammenfassung/Mo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278520" y="22860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888000" y="3581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4421520" y="51055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28600" y="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1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lips Eltern sind zornig, weil Phillip nicht still sitzen kann und hat den Tisch abgedeckt.  Was mach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ass deine Eltern zornig mach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ine Eltern sind zornig, wenn (pusher)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28600" y="2057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2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lip hat sich wehgetan (hurt himself).  Was hat er sich verletzt?  (Das ist Phatasie).  Du musst 3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örpertei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wähnen (men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4a7b"/>
                </a:solidFill>
                <a:latin typeface="Baskerville Old Face"/>
              </a:rPr>
              <a:t>Phillip hat sich (den/die/das) ________ verl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04920" y="4343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3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einem Leben hast du dich bestimmt (certainly) verletzt.  Was hast du dir verletzt? Du musst 3 Körperteile erwähnen (mention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5968"/>
                </a:solidFill>
                <a:latin typeface="Baskerville Old Face"/>
              </a:rPr>
              <a:t>Ich habe mir (den/die/das) _______________ verl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5:37:15Z</dcterms:created>
  <dc:creator>tmsadmin</dc:creator>
  <dc:description/>
  <dc:language>en-US</dc:language>
  <cp:lastModifiedBy>tmsadmin</cp:lastModifiedBy>
  <dcterms:modified xsi:type="dcterms:W3CDTF">2014-03-12T14:56:41Z</dcterms:modified>
  <cp:revision>25</cp:revision>
  <dc:subject/>
  <dc:title>Slide 1</dc:title>
</cp:coreProperties>
</file>